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43E0-6A19-4FC2-B451-4121BF15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CE7-507C-4702-978B-26A150D3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55D-DD9F-4ED2-BA1E-36D925D1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0D44-C3AA-4169-80E7-FF66E51F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952-55F7-484E-9AAF-CB0EB9D0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BE80-EAC6-459C-87A2-4BFBE4F0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8857-E324-447E-B7D9-BB65F541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AA5-732B-424C-98BB-6F3F5CDC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B0D-1F5C-484D-80C1-0AC3D406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CE5B-AF03-4B89-A2F2-724C0BD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9F0-845A-473A-8CFC-980B280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FB81-F1A3-4C81-9BDF-815C8B15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55BF-016A-4D42-8AF7-6519A7A808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IECT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roi, conducatori si evenimente din epoca medievala</a:t>
            </a: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5909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urata: 5 ore                                     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 vom fac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 cu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n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oasca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ateva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personaje istorice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din epoca mediev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 realiza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brosur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i, postere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in care sa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aratam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rolul pe care  l-a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u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avut in istoria Romanie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crea </a:t>
            </a:r>
            <a:r>
              <a:rPr b="0" lang="ro-RO" sz="2800" spc="-1" strike="noStrike">
                <a:solidFill>
                  <a:srgbClr val="00b0f0"/>
                </a:solidFill>
                <a:latin typeface="Arial"/>
              </a:rPr>
              <a:t>scurte prezentari in care sa prezinte un fapt important din viata fiecarui dom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b0f0"/>
                </a:solidFill>
                <a:latin typeface="Arial"/>
              </a:rPr>
              <a:t>Vom realiza excursii in locurile in care acestea au trait sau sunt inmormantat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"/>
              </a:rPr>
              <a:t>MIRCEA CEL BATRA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4" name="Picture 5" descr="mirceacb.jpg"/>
          <p:cNvPicPr/>
          <p:nvPr/>
        </p:nvPicPr>
        <p:blipFill>
          <a:blip r:embed="rId1"/>
          <a:stretch/>
        </p:blipFill>
        <p:spPr>
          <a:xfrm>
            <a:off x="990720" y="1368360"/>
            <a:ext cx="3047760" cy="4502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4191120" y="2438280"/>
            <a:ext cx="3886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e inmormantat la manastirea Coz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a mai renumita batalie a avut-o la Rov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LAD TEP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47" name="Content Placeholder 4" descr="dracula.jpg"/>
          <p:cNvPicPr/>
          <p:nvPr/>
        </p:nvPicPr>
        <p:blipFill>
          <a:blip r:embed="rId1"/>
          <a:stretch/>
        </p:blipFill>
        <p:spPr>
          <a:xfrm>
            <a:off x="228600" y="1371600"/>
            <a:ext cx="3370320" cy="4587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3657600" y="1676160"/>
            <a:ext cx="51847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mnitor in Tara Romaneas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 domn care a pedepsit crud nelegiuirile prin tragerea in te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ramas faimos prin atacul de noapte in tabara turceasca de la Targovi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IANCU DE HUNEDOAR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evod al Transilvanie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inzestrat armata cu Tunu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urtat lupte antiotom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e inmormantat in Alba Iulia, in catedrala cato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Content Placeholder 8" descr="IANCUDE HUN.jpg"/>
          <p:cNvPicPr/>
          <p:nvPr/>
        </p:nvPicPr>
        <p:blipFill>
          <a:blip r:embed="rId1"/>
          <a:stretch/>
        </p:blipFill>
        <p:spPr>
          <a:xfrm>
            <a:off x="533520" y="1330200"/>
            <a:ext cx="335268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ontent Placeholder 6" descr="STEFAN.jpg"/>
          <p:cNvPicPr/>
          <p:nvPr/>
        </p:nvPicPr>
        <p:blipFill>
          <a:blip r:embed="rId1"/>
          <a:stretch/>
        </p:blipFill>
        <p:spPr>
          <a:xfrm>
            <a:off x="436680" y="762120"/>
            <a:ext cx="2963880" cy="3962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3352680" y="16765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FAN CEL M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mnitor al Moldove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bun crestin, a construit foarte multe manast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ungurii, polonii, cu turcii si tatar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8" descr="stefancm.jpg"/>
          <p:cNvPicPr/>
          <p:nvPr/>
        </p:nvPicPr>
        <p:blipFill>
          <a:blip r:embed="rId2"/>
          <a:stretch/>
        </p:blipFill>
        <p:spPr>
          <a:xfrm>
            <a:off x="5410080" y="3733920"/>
            <a:ext cx="14004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MIHAI"/>
          <p:cNvPicPr/>
          <p:nvPr/>
        </p:nvPicPr>
        <p:blipFill>
          <a:blip r:embed="rId1"/>
          <a:stretch/>
        </p:blipFill>
        <p:spPr>
          <a:xfrm>
            <a:off x="1600200" y="457200"/>
            <a:ext cx="2014560" cy="2190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3733920" y="1219320"/>
            <a:ext cx="4572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HAI VITEAZ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fost un mare conducator roman si poate fi considerat un erou deoarece a reusit pentru prima data sa uneasca cele trei tari romanesti : Tara Romaneasca, Moldova si Transilvania in 1600 chiar daca doar pentru un 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purtat razboaie cu turci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3505320" y="5791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cursie Mormantul de la Tur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8" descr="DSC03182.JPG"/>
          <p:cNvPicPr/>
          <p:nvPr/>
        </p:nvPicPr>
        <p:blipFill>
          <a:blip r:embed="rId2"/>
          <a:stretch/>
        </p:blipFill>
        <p:spPr>
          <a:xfrm>
            <a:off x="54864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11:43:03Z</dcterms:created>
  <dc:creator>rodinaloredana</dc:creator>
  <dc:description/>
  <dc:language>en-US</dc:language>
  <cp:lastModifiedBy>Bugs Bunny</cp:lastModifiedBy>
  <dcterms:modified xsi:type="dcterms:W3CDTF">2010-10-03T18:11:24Z</dcterms:modified>
  <cp:revision>32</cp:revision>
  <dc:subject/>
  <dc:title>MIHAI VITEAZU</dc:title>
</cp:coreProperties>
</file>